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wmf" ContentType="image/x-wmf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1E35-CA47-476C-A384-E66499E2A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0D58-1646-4E49-A4DF-881F7F48F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D293-D315-408C-B942-295A3EE7F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C177-51CC-45E5-8C26-8CE1BF05A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definition is really at the heart of geography.  Maps are the tools of geographers:  If something can be mapped, it’s ge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06F0-F803-4FC5-AC71-AFDA82F52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12AF-B076-4D2B-BBE0-56184F4B0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E3C-A5F0-4A58-8743-1242289C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468-B3F1-47F1-A1E0-596B0E4B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D97-7A6D-4387-86FC-EC68A807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369-2366-4782-9AFD-9E918A1C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13CA6-C6D4-4AF5-B020-88200A2D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64E48-BF24-4458-A74E-1DA82072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E6FCB-8196-46F2-B86B-D86FDE72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940CE-352C-4AB7-9285-560F3864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09076-5228-4873-983F-D96F8A90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BA7E6-7FB9-4C99-8FEF-B6C3834F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BAAE3-7CD1-4978-884C-1AD6AF9F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1F1-6FAD-44CC-8B22-6E9C7D06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6BB4A-B7DB-43F7-97B7-A6A4DD61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036FB-AE3C-4882-BE57-6AB67EE0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7BD13-09EB-4E23-9CD3-31247E85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8C777-FF9B-4D9D-BAF4-EB1E5ECD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AB238-7ADB-4AFE-A35F-9CA8F90C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D3E-DE85-483F-8B65-7056ACA3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A25-1178-49C0-8AD4-B206BC46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FE1-C123-4D70-9945-07F1A996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BF3-0C8A-4B7B-B3D1-4E95243C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C86-578B-4A9B-98A2-67208184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B51-427E-402E-9EEE-7576D422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EB7-CBA6-40BA-88EA-F719F96B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1BB2-8DCF-4FB2-957B-E1C525FDC70A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7419-511F-4899-949C-83F3C70A3EEC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Chapter 1:</a:t>
            </a:r>
            <a:br>
              <a:rPr sz="5400"/>
            </a:b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The World of Geography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8120" y="2819520"/>
            <a:ext cx="3295440" cy="30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lac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s includes a location’s physical and human feature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o describe physical features, you might say that the climate is hot or cold or that the land is hilly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o describe human features, you might discuss how many people live there, what types of work they do, or what they do for fu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uman-Environment Intera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ow do people adjust to and change their environment?  How does the environment adjust to and change the people?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Geographers also use interaction to study the consequences of people’s action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Movemen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Explains how people, goods, and ideas move from one place to another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elps geographers understand cultural change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gion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 region has a unifying characteristic, like climate, land, population, or history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On maps, geographers use color and shape or special symbols to show region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Geographer’s Tool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Globes and Maps: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s people explored the Earth, they collected information about it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apmakers wanted to present this information correctly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 best way was to put it on a globe, a round ball that represented the Earth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Because globes are not practical or easy to use to carry, flat maps were invented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owever, the earth is round and a map is flat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apmakers had to find ways to make maps accurate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89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Tahoma"/>
              </a:rPr>
              <a:t>How Latitude and Longitude Form the Global Grid</a:t>
            </a:r>
            <a:endParaRPr b="0" lang="en-US" sz="3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8760" y="2028960"/>
            <a:ext cx="2889360" cy="3609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075120" y="2028960"/>
            <a:ext cx="2766960" cy="3457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929200" y="2028960"/>
            <a:ext cx="2951280" cy="36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Hemispher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9440" y="990720"/>
            <a:ext cx="4337280" cy="563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222800" y="990720"/>
            <a:ext cx="499248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lobes and Map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 most accurate way to present information on the islands, continents, and bodies of water of the world is to put it all on a </a:t>
            </a: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glob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, a round ball like the Earth itself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 only difference between a globe and the Earth itself is the </a:t>
            </a: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scal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, or size, represented on the globe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Globes have a disadvantage: They cannot be complete enough to be useful and at the same time be small enough to be convenient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refore, people invented flat map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Comic Sans MS"/>
              </a:rPr>
              <a:t>Chapter 1: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Comic Sans MS"/>
              </a:rPr>
              <a:t>What is Geograph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*</a:t>
            </a: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It is the study of our earth; our home.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Comic Sans MS"/>
              </a:rPr>
              <a:t>OR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*Anything that can be mapped!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aps try to show the Earth, which is round, on a flat surface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s causes </a:t>
            </a: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distortion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, or a change in accuracy of the shapes and distances of places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t is impossible to show the Earth on a flat surface without some distortion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118120" y="1371600"/>
            <a:ext cx="387360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 1569, a geographer named Gerardus Mercator created a flat map to help sailors navigate long journeys across the glob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Mercator projection, or method of putting a map of the Earth onto a flat piece of paper, is used by nearly all deep-sea navigato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Mercator projection is a conformal map, meaning that it shows correct shapes, but not true distances or siz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re are many types of other projections of the glob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etting It All On the Map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2280" y="1622520"/>
            <a:ext cx="4918320" cy="4471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4600" y="1293840"/>
            <a:ext cx="4626000" cy="368280"/>
          </a:xfrm>
          <a:prstGeom prst="rect">
            <a:avLst/>
          </a:prstGeom>
          <a:solidFill>
            <a:srgbClr val="5b9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93ff"/>
                </a:solidFill>
                <a:latin typeface="Arial"/>
              </a:rPr>
              <a:t>The World: Mercator Proje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0" y="838080"/>
            <a:ext cx="434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re are many ways to show a globe on a flat map. The interrupted projection map, on the left, shows real sizes and shapes of continents. The equal area map , below left, shows size accurately. The Peters projection, below, shows land and oceans areas and correct directions accurate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World: Three Projection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914400"/>
            <a:ext cx="4647960" cy="2742840"/>
            <a:chOff x="0" y="914400"/>
            <a:chExt cx="4647960" cy="274284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rcRect l="613" t="0" r="0" b="0"/>
            <a:stretch/>
          </p:blipFill>
          <p:spPr>
            <a:xfrm>
              <a:off x="0" y="914400"/>
              <a:ext cx="464796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0" y="914400"/>
              <a:ext cx="2752560" cy="307080"/>
            </a:xfrm>
            <a:prstGeom prst="rect">
              <a:avLst/>
            </a:prstGeom>
            <a:solidFill>
              <a:srgbClr val="5d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terrupted Project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57200" y="3886200"/>
            <a:ext cx="4063680" cy="2819160"/>
            <a:chOff x="457200" y="3886200"/>
            <a:chExt cx="4063680" cy="2819160"/>
          </a:xfrm>
        </p:grpSpPr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457200" y="3965760"/>
              <a:ext cx="4063680" cy="27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57200" y="3886200"/>
              <a:ext cx="2295360" cy="307080"/>
            </a:xfrm>
            <a:prstGeom prst="rect">
              <a:avLst/>
            </a:prstGeom>
            <a:solidFill>
              <a:srgbClr val="5d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Equal-Area Project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838760" y="3570120"/>
            <a:ext cx="4076280" cy="2982240"/>
            <a:chOff x="4838760" y="3570120"/>
            <a:chExt cx="4076280" cy="2982240"/>
          </a:xfrm>
        </p:grpSpPr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4838760" y="3662280"/>
              <a:ext cx="4076280" cy="28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838760" y="3570120"/>
              <a:ext cx="2034000" cy="307080"/>
            </a:xfrm>
            <a:prstGeom prst="rect">
              <a:avLst/>
            </a:prstGeom>
            <a:solidFill>
              <a:srgbClr val="5d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eters Project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World: A Robinson Proje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1447920"/>
            <a:ext cx="9143640" cy="5104800"/>
            <a:chOff x="0" y="1447920"/>
            <a:chExt cx="9143640" cy="510480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0" y="1499760"/>
              <a:ext cx="9143640" cy="50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830480" y="1525680"/>
              <a:ext cx="2107800" cy="210600"/>
            </a:xfrm>
            <a:prstGeom prst="rect">
              <a:avLst/>
            </a:prstGeom>
            <a:solidFill>
              <a:srgbClr val="5d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84240" y="1447920"/>
              <a:ext cx="19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56b8d6"/>
                  </a:solidFill>
                  <a:latin typeface="45 Helvetica Light"/>
                </a:rPr>
                <a:t>ARCTIC OCEA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Parts of a Map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Compass Ros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 compass rose is a model of a compass. It tells the cardinal directions, which are north, south, east, and west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Sca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he scale on a map tells you the relative distance on the map to the real world. For example, a map’s scale may tell you that one inch on the map equals one mile in the real world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273800" y="291960"/>
            <a:ext cx="1793880" cy="184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Key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he key, or legend, on a map explains what the symbols on a map represent, such as triangles representing trees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Grid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ome maps use a grid of parallels and meridians. On a map of a small area, letters and numbers are often used to help you find your locatio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58000" y="380880"/>
            <a:ext cx="1422360" cy="146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*Geography mixes up the physical and human aspects of our world into one field of study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*Geography shows the relationship between people and the environment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What is a geographer?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omeone who analyzes the Earth from many points of view.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337356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Five Themes of Geograph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re are five ways to look at the earth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When geographers work, they are guided by two basic questions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Where are things located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Why are they there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To find these answers, geographers use five themes to organize informa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ngs that geographers study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oceans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plant lif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landforms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peopl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ow the Earth and its people affect each other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66"/>
                </a:solidFill>
                <a:uFillTx/>
                <a:latin typeface="Tahoma"/>
              </a:rPr>
              <a:t>The Five Themes: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Location – Geographers begin to study a place by finding where it is, or its locatio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lace – Geographers study the physical and human features of a locatio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Human-Environment Interaction – Geographers study how people affect or shape physical characteristics of their natural surroundings and how does their surroundings (environment) affect them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ovement – Helps explain how people, goods, and ideas get from one place to another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Regions – Geographers compare the climate, land, population, or history of one place to another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oca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re are two ways to think about location: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bsolute location – describes the place’s exact position on the Earth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relative location – explains where a place is by describing places near it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1:57:15Z</dcterms:created>
  <dc:creator>Anna Bettencourt</dc:creator>
  <dc:description/>
  <dc:language>en-US</dc:language>
  <cp:lastModifiedBy>Anna Bettencourt</cp:lastModifiedBy>
  <dcterms:modified xsi:type="dcterms:W3CDTF">2011-02-22T20:24:38Z</dcterms:modified>
  <cp:revision>10</cp:revision>
  <dc:subject/>
  <dc:title>Unit 1: An Overview of Geography **************************</dc:title>
</cp:coreProperties>
</file>